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CA3-2D57-42C8-A1BC-EF548A90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B29-3ED8-4E43-A4F2-89B9E30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3EFFE-18F2-4AEA-B2B3-2C6EA688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30FDB-B1C2-44E1-B482-ABC23806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F3A9D-09B9-4B18-8DDE-ED346DDF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6EFF-C238-4265-903D-97C3BD6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0FF58-813B-4B4C-AAE0-8537824A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4E17B-8492-4DE3-85A0-FC42F1E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5587E-E9A9-47BD-A4DB-6E89B14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8653C-846A-467E-9577-5C591517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37A7E-6879-49CE-A1AF-3CE4CF8C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C1486-6D42-4EFA-ADB2-98AADEF4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791-B19E-4734-AA28-DCD92E82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83A2A-C4ED-4D50-8C5B-04E5F2E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33C91-0BA3-468E-B998-606DECD7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20C5E-49FD-4AD6-B012-3ECE969B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C2B16-0616-48BC-ADFE-49B10172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57B40-6467-4F92-9A45-2D23D8B9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B7A3C-41E1-4943-90FD-B58074A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5A1A7-AB13-402E-A6A5-D56193B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B3CAC-8297-4A27-9DB5-C2726125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DEA54-33C7-42FF-AE53-CACE274D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2E926-8010-4013-BED8-7E55A6B3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489-025C-476F-8CE8-A2F9D0B3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328E5-D741-44EF-8826-DA3E6140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B010-DFD0-413C-A342-7FD54DC5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FD1CC-5114-4CA4-8AD7-35EA8FF4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972D9-1789-489C-897F-27E1A55B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FE980-8954-4E61-9B60-8B71F47F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308F1-54B4-438F-A1A7-813195B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466A5-D250-4C0A-B949-D91FFD0B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09B97-4AFD-41E7-9E5E-85784AB8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FE75A-B5E0-4B34-84CE-6E15239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B4876-9D92-47F6-8372-B8C8730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2B88-C6E0-4801-916B-049277EF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32005-27A2-43BB-9678-6C6E2F76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A9CD-0D67-4945-839C-7CE3CC4E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F612D-715C-4A12-87EE-D05796F8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038E6-BE97-429E-AD47-EC13DE54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845F8-BC58-48DA-969D-DAB8B4A6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62D1C-AD44-4B82-A73C-FB44A38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97C53-2079-43C3-A9EF-D2C67F1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95595-23B6-49EA-A828-55466399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4A369-4DEF-412C-9C62-100DBBAE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064DD-B319-4E80-9BE3-F803550E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5D66-F6B2-4E3D-9A40-C88A2CAB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E7A5E-90D5-4F74-B5DD-6E8E6A52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D2119-9EA5-415D-8380-F6841AB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D8991-75E3-423D-8C41-29563E5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9223F-064D-41DF-A36F-9CEE450D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B5DE5-333D-4DDD-9C3B-95E99074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25CA4-746A-4BA8-B8B5-A6D9255B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E632F-9707-4D81-BBC1-6215874C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E3BFD-6D5F-435A-B8E5-1504140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29F12-3A24-4AEE-8169-D1BBE5B4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D1B1C-7309-4D03-A378-BFB03F5D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4C70-4E68-42FC-B989-54BBFDB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E5F6F-D693-4984-B4F8-F8F86684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4F08A-ABBB-4111-A496-B64FF67E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F39E4-C29D-4970-8E91-DE82685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E7DB0D-5D50-4B55-B8AC-E88D1FA6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127EC-0912-483C-9759-FDA82257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B02EB-E0AF-4952-8938-8F302676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A094B-0A0C-4DB1-9796-22AF9EF4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88940-FD90-4644-BC1E-6B8722C5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654BE-A89F-4353-A0FE-6358D3DE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94328-AF7A-4FA4-BD25-A8D1B44E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555D-FE44-4466-B6C3-7C4B14B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37955-FEF3-40F3-9021-FD71776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173EF-64D5-45D0-99EF-43610AED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857E30-EA6A-4299-B3F6-A0678B6F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CCF98-3879-47F9-82EA-B03EB0D4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53AA0-2C55-4CF9-B37F-4CCAA7DC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44058-68A5-494B-B870-7093663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C7CB2-73D9-4BCD-ACFA-B571C52D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DCCFE-593F-45A4-9832-1F19748E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5F7CB-D249-42D9-A484-661C1718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5AB43-ABE3-4F91-9067-30B4CDC4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C5FA-6294-4C47-9A3B-094842EC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4A448-0409-437E-A247-5B1AC97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753E9-0D1D-40D4-BE96-E0AD2D1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F0834-A838-45B5-AA98-967D691E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A496A-9C54-45E9-AC29-8E998C89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828550-A0FA-4146-9141-B0E72BD1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29B89-2092-4669-80F6-722210A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0D44D-18D9-4CA3-8AAF-A3A89192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76F4A-8C6D-42FC-9737-740EA651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365068-5F31-4E5E-80D1-CEC036A4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1C098-28D0-487F-A08D-B4200CC1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534-F588-499B-8D9A-76BDCFBD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E11C5-B264-4C2F-8158-BD86763F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89E3B-4C65-49A5-9337-60851283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BC670-419E-498B-86A7-AA683541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EF118-DF44-4B5D-A01E-C411589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AA3A3-8BDB-435B-A35C-161B0AA1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3B7C57-87E5-43F8-B615-6471113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8EEC4-7886-4533-B47C-602BAADA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49B6BD-E2B7-4A6E-9B57-68956D7A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A8F3A-1A88-4933-9BFC-14AF81C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92B3B-F2B6-4D5B-8282-86FFF3C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C55-2B4C-4344-9430-E82B602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EA43F-5BD1-46CE-91CE-A6A69DE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3706B-B8D3-4016-83F7-EFF8B96E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2C4B33-8745-41AD-80E7-D9E2D6F5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3CCF5-5406-4806-B539-A38775FA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4F584-29D2-4EEF-B817-D3D5A8FC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84E720-C894-4D77-A494-5643074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59846-5CBD-4F31-8216-61AA1D16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715418-AC04-4CA0-82AC-B37D6F0B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D5792-295E-48DF-A9A8-A82B7032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10030-2DCE-41BA-B6C2-EBB04FD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364-2E83-4D59-A47D-41B6154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8C89-D6DC-4A57-8AC7-767FBD5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2E079-307F-43AD-82F1-A6634F2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37AEA-1D59-4EBF-B074-2B31550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8B4D1-70A6-49A5-AEBC-24140E56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896C2-8FEB-46F2-9A53-1210A5B9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CADFA-5796-4D46-A715-1BDE5958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50EE26-03CA-4FDA-87B2-10886EBE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A209B0-B83B-49AB-B210-D8F97AC0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00A7D-9F9E-4A93-AA5D-F7268D3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1EE84-AA37-41A1-9D78-9D122BE3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E10223-4734-43B6-9ADC-E32672D1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05C2-F52F-4B27-9F6F-093B608C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35EB5-E8DA-4FEA-AFC1-8BF1E0BE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1738CF-877B-4DB9-8CC5-42F59564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E3106-B08C-4EDC-B4D2-03634222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EFF7DE-0E95-4D5D-99E6-F509FA98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6A69F-8BB4-4590-84A0-7C93C77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93DB3-9B05-4916-AFAC-210034E5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49233-F722-4642-A2C5-321AC601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00C1F6-654B-4967-B1EE-8879B385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4B1A1-22DF-431D-A20F-FAFE0D1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C6D955-E0F3-4D63-B114-3A6A8C6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2F02-6D90-4677-A9FB-22E6BC1A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E10C1-AF28-4ED9-9AC4-44F9800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47124-05BE-402B-8EBD-F2CA096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E51FB-23F2-491A-A4B5-19ED4906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5C4F8C-CB20-4F24-B5A4-205AACC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EB1E8-B8BD-4AE7-90F6-CA20F400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3ECE6-B9D1-49DB-A766-FB703E6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FF38B-6E66-4ACC-A0BA-127428F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AF0A1-5034-4B9C-87CA-F191BD76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76318-8EDE-49C6-ADC2-CF7465D1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19FB6-434B-48B5-802F-87A49DA9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A2EF-F32F-4887-9ACD-93D1E072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76321-9129-4521-AF1E-8C277EC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D3ECF-CB0D-4CE4-9616-6B6CFC31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A0E94C-58EF-40A0-8BD7-2BC87866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158B0A-0483-4131-9479-C617C5E1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7E7922-25FB-4F59-83B7-A5FFA0A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9F7BDA-DD1D-4744-9521-E271B4B7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E937DC-C6AC-4E7A-AAD8-DB659587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A7F3B-217D-40A7-8F48-A9417E8C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21165-3724-4165-9A98-84E8996F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A29E54-E9F8-4F99-A6C9-85295B51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D7B7-07BB-494B-B9D8-02B3B605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1B488-7A65-4098-AC5E-717853BD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58310E-7819-413C-9E35-D70C4DE4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4AA659-ED83-434E-8BDD-CE698D8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E470F-4F80-4EEA-BC46-1F354390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92E14-B84F-4569-8FE9-94C924EE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14B75-D6E1-40C1-B858-D66EB8AD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60327F-1BEC-4BB4-ABF1-52FF3090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343F86-5866-40B5-9410-2986E2DF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842E99-C565-4F4F-A9C6-57B607C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39202-AFF4-473C-9491-961D72E6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1EA88-F698-4EA0-9972-143548F9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B2968-F527-4BD2-96FA-D4BCAC9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93DB0D-2111-46B4-8169-9E97B48E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5662A-F365-415F-8BEB-2FF7BA09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8F97-C1B1-403A-9425-CD10C464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CD3E4-B95B-450F-BCCE-F5D77D42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0D16D-42B4-4B0A-9292-9371AB4F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06A3E-F6EA-4858-ADCC-169DAF4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331-8078-4D54-A888-2E136A1B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5911-10B1-44A8-8412-C148B273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81D8F-CCAE-4EDA-9BF9-8BA3422E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B463-17C1-445F-A328-3FE5A4F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AA65-FA94-4607-B1F9-18398258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6E54-1ABF-451D-9941-490D0324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0632-A44B-4795-A596-7C01FEE5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D7F2-6C67-44E7-A9C9-470130DC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3EE2-BF4F-4323-B9D6-1DDB1393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8E45-C124-4CBB-AE1A-5E055F47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81866-C027-4F9A-BCFE-CE2AB13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6B3-8E5F-4DAA-AA86-A7814DA6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D38A-0535-4667-B92D-89B65146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9090-7481-4C06-88F2-46B567F0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54C3-778F-4172-A683-987457FD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8193-0728-4504-9B3C-87C9B34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02D8-5764-4BA1-A8FB-2F23C2B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FDCD-C5FD-4B19-95FF-E36BFF9F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64F2-6CEA-4A59-BE8A-A14B4F31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14AF-F3D7-4070-9C06-DB83B6B6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DBE5-25E2-4788-9DB3-61322E2C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03E43-28EF-4870-966E-BCA0DD53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DA5-3209-4A7D-BF5A-96E307A7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B065-11E4-4EF2-8193-BC127B99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616DE-4A74-4607-9442-EBCC9AC3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E47E-642E-461B-AAC7-54BC141B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C3C5-D799-4997-B343-E7A1F0A4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B4BB5-FDC9-4007-82F5-2DE815E4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4A1C-D68E-4F28-BA47-B3127BE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65955-F8C1-4F67-AE39-88728C16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62D5-361F-4F6F-8C03-89A63F0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9B93-5962-47EA-8380-5F6007E0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4D66B-82C0-44E5-BE77-A5AE539E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99C-96CC-487D-A548-E8B31883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E02A-1B04-4737-ADC1-EB3393A8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84494-D73A-4981-9CD0-7290E586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4E11C-916B-4DCD-AB25-DD52E48C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4CC40-6644-48E9-A805-35A37197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8000E-837B-4E41-AB91-7F706CD1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5A0DF-01B7-4EC6-82FF-9C930589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154B-A18F-45BD-8601-01370FD6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FC85-1DC5-4482-A0D6-32000941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BF432-D1A0-44D1-A36D-FF354D9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9E15E-E9C2-43CA-A150-F59B1025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DD3-6886-4DAF-9425-55D6F56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DF162-BCDE-4EEA-AD7F-0AE8E458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C1793-42B2-426A-8A5D-66C17072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1ADF1-84CF-4C6E-80DB-25F35A0D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13C9A-DD19-4378-9D4D-4D1C96FC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DB24-F7C3-469F-9DC5-D1DB8C44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2B10-5539-4F6E-A48B-E0D8C581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B4AB9-E30D-4982-B52B-67562779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A63E5-6713-4437-BE5D-ECDD3670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7BE4C-5192-4565-8075-F26F9B6E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D56F9-369A-4820-AAE7-0F9F7F2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23A-1D09-421D-8F6C-20482AF0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B1D70-33F1-4643-A72C-E8212D0A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E311-1891-4B86-ACA8-18433A9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11F9-4222-427F-A5B8-2820A098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F83FB-6EE5-46A0-A32C-DA6F45E7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39BB-8DBA-4C26-B3B9-78BB4D50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0BD91-56D9-4EB4-8596-8721937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120E2-AEAE-4EAC-BA34-447B0A68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DA3A9-3393-4274-9DE9-EEA41347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DD8EB-E175-44FD-A045-B85120AC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1F1B8-CDF8-4B38-93CE-EC97D529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BFC-8BBB-4D4B-A065-75F31F5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66B8F-A921-4853-A1F0-6E77D7D7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CCBF-88A4-4E6F-90D2-635C5BE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EABA4-BCFF-4253-B29F-D8756697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B20F7-75E4-4BA8-9BFA-07AAFDF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BBA86-49FB-4B96-9FFA-BAEA791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9504-E560-413B-9C29-49A6899A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803F-F8DA-4CD1-9B67-7F320926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9C3F1-F5F4-4318-8520-FAEAAECA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9E59-5F7E-49A8-A62F-50A848AA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494AF-50F9-4C89-9B57-DBC689E2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0648-D943-47A5-9C3A-20FE9FC7D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2424-D01B-4B85-9FBC-1DDD8AEC17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AB77-9304-4686-9A1C-6F5D6783D5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2C49-C60D-4526-BA21-3AD05759D7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0D6-5A31-4F1E-B4F2-6B112BBE5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6EB2-5D01-4B41-BCC1-4D996CDF8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E0E8-62B0-4B8A-AF4C-CA43322DF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4EE1-EDF1-4F61-8AE6-28C50BC450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79E2-77D3-454C-8949-8890CC529A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E502-AEB8-4B72-B81E-DC108A0AB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CC70-8197-4BEF-9C79-48DC279392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F527-0892-4070-BFD4-9D99F7FC1F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6661-F3C2-4CA3-99BD-6C3AF9FBC7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0A4A-B3C9-44CC-A424-67F768EA99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FAA5-DC23-4D53-A0EB-AD18C11826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4931-46FD-4665-B990-589D42FB8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554-6449-448A-9D04-41CCE02CCD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E831-6C03-4712-A10B-3EF7F37FED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AB5-9B11-41D8-8401-6DE9E53146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B394-7287-44BA-9A82-99E3D988B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5B0F-5716-4CA5-9790-847EC7B54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AE2C-3BF5-4492-8D25-724430D238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B941-23D8-4D36-A88E-7C03E7461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AE5D-0336-4DC4-AE1D-05E5278F1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66D3-1338-427B-ACDA-40383434B8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612-30CA-4283-B192-D7D5F02820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D92-CF95-4460-B0CB-E5DD6518C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9335-4043-4A9F-AC59-1F6A026216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2E8F-A707-4343-A089-930F97178C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586E-AC2C-41C9-8AA5-3B68832532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3287-9C2D-4C37-ADEA-05327D2D2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DDD7-B968-45D1-9F09-524AA05CC5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7293-FEDC-4530-B878-10BE24FC3E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4F34-46C4-496E-AD90-9EB624C3AA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2BD-567C-424A-AE58-AFB78162E5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66DC-DF52-463F-ADDC-3A7ABD1186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3D6A-228C-4715-BC41-CC641EB9C1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57B2-0225-4BC9-ABD6-5C3E04A1CC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ED1C-FECF-4CBA-989D-D8E9337106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1D99-F793-40F9-8C8C-065270830A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595520" y="2971800"/>
            <a:ext cx="5952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485640" y="1833480"/>
            <a:ext cx="8172720" cy="31910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68360" y="242100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68360" y="308304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24000" y="3774960"/>
            <a:ext cx="8351640" cy="5032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250920" y="4408560"/>
            <a:ext cx="835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85920" y="1162080"/>
            <a:ext cx="8372160" cy="4533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492360" y="2276640"/>
            <a:ext cx="935280" cy="502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156360" y="2290680"/>
            <a:ext cx="1368360" cy="5032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564000" y="321300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24360" y="322740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708360" y="4149720"/>
            <a:ext cx="1295280" cy="5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516720" y="4164120"/>
            <a:ext cx="934920" cy="503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492360" y="5099040"/>
            <a:ext cx="935280" cy="503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012000" y="5099040"/>
            <a:ext cx="934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542880" y="1233360"/>
            <a:ext cx="8058240" cy="4391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2340000" y="2176560"/>
            <a:ext cx="1224000" cy="503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084720" y="2190600"/>
            <a:ext cx="1511640" cy="503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2325600" y="3083040"/>
            <a:ext cx="1511280" cy="503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459480" y="4956120"/>
            <a:ext cx="1150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22200" y="189000"/>
            <a:ext cx="8629560" cy="409572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8374" descr=""/>
          <p:cNvPicPr/>
          <p:nvPr/>
        </p:nvPicPr>
        <p:blipFill>
          <a:blip r:embed="rId2"/>
          <a:stretch/>
        </p:blipFill>
        <p:spPr>
          <a:xfrm>
            <a:off x="668160" y="4262400"/>
            <a:ext cx="7286760" cy="2552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5435640" y="2781360"/>
            <a:ext cx="649080" cy="503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1403280" y="3716280"/>
            <a:ext cx="649440" cy="5032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4989600" y="3759120"/>
            <a:ext cx="64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304920" y="828720"/>
            <a:ext cx="8534160" cy="52005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7353" descr=""/>
          <p:cNvPicPr/>
          <p:nvPr/>
        </p:nvPicPr>
        <p:blipFill>
          <a:blip r:embed="rId2"/>
          <a:stretch/>
        </p:blipFill>
        <p:spPr>
          <a:xfrm>
            <a:off x="1515960" y="2897280"/>
            <a:ext cx="6801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85680" y="824040"/>
            <a:ext cx="8972640" cy="5209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116000" y="2968560"/>
            <a:ext cx="273528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3995640" y="2938320"/>
            <a:ext cx="2735280" cy="50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611280" y="3602160"/>
            <a:ext cx="7345440" cy="50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684360" y="4235400"/>
            <a:ext cx="7345080" cy="503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6"/>
          <a:stretch/>
        </p:blipFill>
        <p:spPr>
          <a:xfrm>
            <a:off x="684360" y="4883040"/>
            <a:ext cx="734508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7"/>
          <a:stretch/>
        </p:blipFill>
        <p:spPr>
          <a:xfrm>
            <a:off x="755640" y="5603760"/>
            <a:ext cx="7345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5300" descr=""/>
          <p:cNvPicPr/>
          <p:nvPr/>
        </p:nvPicPr>
        <p:blipFill>
          <a:blip r:embed="rId1"/>
          <a:stretch/>
        </p:blipFill>
        <p:spPr>
          <a:xfrm>
            <a:off x="204840" y="801720"/>
            <a:ext cx="8734320" cy="5867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6408720" cy="503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684360" y="422100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611280" y="4883040"/>
            <a:ext cx="2592360" cy="5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55640" y="5516640"/>
            <a:ext cx="3311640" cy="503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55640" y="6208560"/>
            <a:ext cx="3311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623880" y="2781360"/>
            <a:ext cx="7896240" cy="1295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684360" y="2708280"/>
            <a:ext cx="79200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90360" y="750960"/>
            <a:ext cx="8963280" cy="59911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4278240"/>
            <a:ext cx="4608720" cy="5032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826920" y="4956120"/>
            <a:ext cx="4608720" cy="5032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755640" y="5575320"/>
            <a:ext cx="460836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84360" y="6237360"/>
            <a:ext cx="46083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41:0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